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0CA-695C-4D12-A4A0-02C422FB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509-8641-42DD-AE6B-D80276FB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1A6-E605-4685-A240-74949CD3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691-6935-4547-9234-E40F6C7F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4B7-4725-441D-9BD2-F7DBE789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395-A284-46E0-AE21-2BA726F3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6D4-EF8A-489A-AD8E-4E28808A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CDB-3DF9-4777-B432-D4B5634C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009-E73E-49A1-ABEB-8FF41B5B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3CC-94A4-4ED6-A9C3-F8D01704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C02-3C6C-41FA-B7FF-58121305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C89-BE1C-40BC-9BE7-BCB9A92A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8EDC-A18D-42DD-88F2-E78F1D7E9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rebuchet MS"/>
              </a:rPr>
              <a:t>The Short 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19520" y="3200400"/>
            <a:ext cx="34844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Problem and Conflict in “Cinderell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: Cinderella wants to go to the ball, but her stepsisters prevent her from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: The conflict is </a:t>
            </a:r>
            <a:r>
              <a:rPr b="1" lang="en-US" sz="2800" spc="-1" strike="noStrike">
                <a:solidFill>
                  <a:srgbClr val="0000ff"/>
                </a:solidFill>
                <a:latin typeface="Trebuchet MS"/>
              </a:rPr>
              <a:t>external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—Cinderella versus the stepsisters and their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9480" y="3881520"/>
            <a:ext cx="41148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ypes of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flict is generally categorized in the following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Man versus Ma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this is an external struggle between two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Man versus Societ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this is an external struggle between a character and a social force or condition produced by society, such as poverty, political revolution, or a set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Man versus Natur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this is an external struggle between a character and some natural obstacle or natural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Man versus Self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this is an internal struggle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hin a character, where aspects of his or her personality may struggle for dominance. These aspects may be emotional, intellectual, or mo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he Five Stages of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Exposition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troduces the story’s characters, setting, and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Rising action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ccurs as complications, twists, or intensifications of the conflict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Climax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is the emotional high point of the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Falling action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is the logical result of the clim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Resolution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presents the final outcome of the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3124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5 Stages of plot in Cinder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286000"/>
            <a:ext cx="8077320" cy="2133720"/>
          </a:xfrm>
          <a:custGeom>
            <a:avLst/>
            <a:gdLst/>
            <a:ahLst/>
            <a:rect l="l" t="t" r="r" b="b"/>
            <a:pathLst>
              <a:path w="5088" h="1344">
                <a:moveTo>
                  <a:pt x="0" y="1344"/>
                </a:moveTo>
                <a:lnTo>
                  <a:pt x="960" y="1344"/>
                </a:lnTo>
                <a:lnTo>
                  <a:pt x="3888" y="0"/>
                </a:lnTo>
                <a:lnTo>
                  <a:pt x="3984" y="0"/>
                </a:lnTo>
                <a:lnTo>
                  <a:pt x="3984" y="1248"/>
                </a:lnTo>
                <a:lnTo>
                  <a:pt x="5088" y="1248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438280"/>
            <a:ext cx="1905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inderella l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ith her stepsi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nd their moth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y make her w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rags and do all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hard wor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8862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2362320"/>
            <a:ext cx="10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n invitation to the ball arriv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34290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523880"/>
            <a:ext cx="1311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 fairy godmother appears and provides Cinder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ith clothes, a coach, and footm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441972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stepsisters go to the ba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971800" y="41148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358128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inderella goes to the ba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495680" y="3352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1523880"/>
            <a:ext cx="1905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inderella dances with the princ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but leaves hurriedly at midnight; losing a sli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2514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760" y="2895480"/>
            <a:ext cx="1125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pri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ays 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ill ma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wo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hom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lipper f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72200" y="2590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1560" y="990720"/>
            <a:ext cx="186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stepsi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ry to force the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eet into the slipp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t fits Cinderel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905120"/>
            <a:ext cx="759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70040" y="279396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inderella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prince mar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857640" y="3200400"/>
            <a:ext cx="3049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21360" y="4724280"/>
            <a:ext cx="15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y live happ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ver af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4419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248520" y="533520"/>
            <a:ext cx="1371600" cy="380880"/>
            <a:chOff x="6248520" y="533520"/>
            <a:chExt cx="1371600" cy="380880"/>
          </a:xfrm>
        </p:grpSpPr>
        <p:sp>
          <p:nvSpPr>
            <p:cNvPr id="103" name=""/>
            <p:cNvSpPr txBox="1"/>
            <p:nvPr/>
          </p:nvSpPr>
          <p:spPr>
            <a:xfrm>
              <a:off x="6400800" y="533520"/>
              <a:ext cx="99072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CLIMAX</a:t>
              </a:r>
              <a:endPara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48520" y="9144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57200" y="5486400"/>
            <a:ext cx="1523880" cy="428760"/>
            <a:chOff x="457200" y="5486400"/>
            <a:chExt cx="1523880" cy="428760"/>
          </a:xfrm>
        </p:grpSpPr>
        <p:sp>
          <p:nvSpPr>
            <p:cNvPr id="106" name=""/>
            <p:cNvSpPr txBox="1"/>
            <p:nvPr/>
          </p:nvSpPr>
          <p:spPr>
            <a:xfrm>
              <a:off x="457200" y="5638680"/>
              <a:ext cx="1523880" cy="27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EXPOSITION</a:t>
              </a:r>
              <a:endPara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54864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971800" y="5486400"/>
            <a:ext cx="3124080" cy="428760"/>
            <a:chOff x="2971800" y="5486400"/>
            <a:chExt cx="3124080" cy="428760"/>
          </a:xfrm>
        </p:grpSpPr>
        <p:sp>
          <p:nvSpPr>
            <p:cNvPr id="109" name=""/>
            <p:cNvSpPr txBox="1"/>
            <p:nvPr/>
          </p:nvSpPr>
          <p:spPr>
            <a:xfrm>
              <a:off x="2971800" y="5638680"/>
              <a:ext cx="3124080" cy="27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RISING ACTION</a:t>
              </a:r>
              <a:endPara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54864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086600" y="2286000"/>
            <a:ext cx="1390680" cy="380880"/>
            <a:chOff x="7086600" y="2286000"/>
            <a:chExt cx="1390680" cy="380880"/>
          </a:xfrm>
        </p:grpSpPr>
        <p:sp>
          <p:nvSpPr>
            <p:cNvPr id="112" name=""/>
            <p:cNvSpPr txBox="1"/>
            <p:nvPr/>
          </p:nvSpPr>
          <p:spPr>
            <a:xfrm>
              <a:off x="7086600" y="2286000"/>
              <a:ext cx="139068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FALLING ACTION</a:t>
              </a:r>
              <a:endPara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86600" y="26668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781680" y="5486400"/>
            <a:ext cx="1828800" cy="428760"/>
            <a:chOff x="6781680" y="5486400"/>
            <a:chExt cx="1828800" cy="428760"/>
          </a:xfrm>
        </p:grpSpPr>
        <p:sp>
          <p:nvSpPr>
            <p:cNvPr id="115" name=""/>
            <p:cNvSpPr txBox="1"/>
            <p:nvPr/>
          </p:nvSpPr>
          <p:spPr>
            <a:xfrm>
              <a:off x="6781680" y="5638680"/>
              <a:ext cx="1828800" cy="27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RESOLUTION</a:t>
              </a:r>
              <a:endPara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81680" y="54864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 short story is a short piece of fict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 the elements of short stories through the classic “Cinderel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29000" y="3276720"/>
            <a:ext cx="22845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tting is the time and place of the story’s action.  Setting includes ideas, customs, values, and belie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3911760"/>
            <a:ext cx="2819520" cy="235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886200"/>
            <a:ext cx="38354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he setting in “Cinderell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story takes place a long time ago in a land ruled by a king and a qu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817800" cy="34243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257800" y="2971800"/>
            <a:ext cx="3146400" cy="3195720"/>
            <a:chOff x="5257800" y="2971800"/>
            <a:chExt cx="3146400" cy="3195720"/>
          </a:xfrm>
        </p:grpSpPr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5257800" y="2971800"/>
              <a:ext cx="148284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7238880" y="4343400"/>
              <a:ext cx="1165320" cy="182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haracters are the actors in a story’s plot.  They can be people, animals, or whatever the writer cho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protagonis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is the main charac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antagonis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is the person in conflict with the main character.  Not all stories have antagon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haracters in “Cinderell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main characters are Cinderella, the stepsisters, their mother, the fairy godmother, and the pri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Protagonis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: Cinde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Antagonis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: the stepsisters, their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1276560" cy="24764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3276720" y="3809880"/>
            <a:ext cx="4790880" cy="2438640"/>
            <a:chOff x="3276720" y="3809880"/>
            <a:chExt cx="4790880" cy="243864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3276720" y="4267080"/>
              <a:ext cx="217152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400800" y="3809880"/>
              <a:ext cx="1666800" cy="240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oint of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int of view refers to the relationship of the narrator, or storyteller, to the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 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first-person point of view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the narrator is a character in the story, referred to as “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 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third-person limited point of view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the narrator reveals the thoughts of only one character, referring to that character as “he” or “sh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 third-person omniscient point of view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the narrator knows everything about the story’s events and reveals the thoughts of all the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5029200"/>
            <a:ext cx="3581640" cy="1306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50292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952880"/>
            <a:ext cx="42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inderella is told throu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third-person omniscient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int of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486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me is the central idea or message of a story, often a perception about life or huma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Stated themes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are directly presented in a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Implied themes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must be inferred by considering all the elements of a story and asking what message about life is conve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theme of “Cinderella” is </a:t>
            </a: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implied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.  The reader can infer the message that if you are in a bad situation, you should do the best that you can.  In the end, things will work out for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19920" y="1676520"/>
            <a:ext cx="27432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lot is the sequence of events in a story.  Each event causes or leads to the next.  Plot is often created through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, a struggle between opposing forc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external conflic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is one between a character and an outside force, such as another character, nature, society, or f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internal conflict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akes place within the mind of a character who is torn between opposing feelings or between different courses of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4:50:39Z</dcterms:created>
  <dc:creator>April Baker</dc:creator>
  <dc:description/>
  <dc:language>en-US</dc:language>
  <cp:lastModifiedBy>ron </cp:lastModifiedBy>
  <dcterms:modified xsi:type="dcterms:W3CDTF">2006-08-30T01:47:23Z</dcterms:modified>
  <cp:revision>11</cp:revision>
  <dc:subject/>
  <dc:title>The Short Story</dc:title>
</cp:coreProperties>
</file>